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8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4528-8390-4C79-A5A7-DCC73BFF8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85AE-B840-4D43-B682-2F95D3802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CB29-EEA3-4853-8526-EC12074F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44F-4585-41F7-BCB4-8E4D1317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C43-A9D0-4EEA-A3C0-B8D2B43A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9B5-F9BE-4FC8-ACC8-C4D6A4E7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A397-A8C9-40B3-99FA-CB4D226F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AD684-01A4-4275-B63D-60A7D89C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885CF-9269-4FA0-B7BF-CBCCFE5B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AFBCA-9053-49F4-90EB-EC9D765C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637EB-6D08-4363-9F24-F0AF31AC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72501-6749-46F8-A480-D282767B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504-A02F-4B3A-B3AF-6DCC0CE0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988DB-746A-48C0-9A76-F616F66A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E683F-39DC-43E8-9C89-6D83FF8A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E200E-7DC6-4B6A-8281-080DE585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3142F-8847-4100-811E-488EDEF0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9A1F9-409C-4816-B9CE-750F0B95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D65C6-988A-4E8E-A0BB-8845013B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93D60-9D0B-43A4-A0CA-6CEC2EE4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7D41C6-E00C-4DF6-AA54-8909D33A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9C8BC-085B-4F03-9EA1-38669C4B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D07124-2958-4B3D-A841-7F3EC7E0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322-9F9A-4CD4-AE82-65A0256B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9265D5-788A-4333-8E86-39B80037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76801B-CB0B-4667-929C-55DC4D0D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840FEF-FFB8-47BE-A63D-9192F659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3C217F-DB1A-48F7-BBC7-51B1C136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8BD6EA-196D-4FA6-B846-290F2600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510231-8E52-4145-94B6-5FC7D32D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756BD5-0C7D-4CA7-AD2E-0A28EB01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B04148-CE09-4FEB-B5B7-D9989B70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8BE79-4CE4-441B-B911-37BA5C40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5A6-893B-47B7-B5AC-0D589047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76B-06D7-4C07-9976-2915A5E0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24E-70C0-41BD-A6F6-DC394C6B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E8EB-5D7F-4372-B648-4C0AE52E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7BB-CCEF-4238-A33F-CC94C6F8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488C-E98B-4CC2-93C6-3EA2FA49E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6294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águese Usted Pri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8D47-C71C-4D32-B081-6FA5D45763D8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57D6-6253-413E-A567-2FDAAFE44FDD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E865-5587-4C09-99EF-09E0DD974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CA4B-E712-4B84-A12B-0E470AFBCE11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3376-1B57-4084-A50D-3493960FC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fdicinsurance.gov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ay Yourself First title slide with FDIC Money Smart logo and module logo including a coin and piggy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7"/>
          <p:cNvSpPr/>
          <p:nvPr/>
        </p:nvSpPr>
        <p:spPr>
          <a:xfrm>
            <a:off x="0" y="5428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águe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228600" y="17431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s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457200" y="28972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7160" y="384120"/>
            <a:ext cx="899136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orcentaje Anual de Rendimiento (AP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el monto de interés que ganará al cabo de un año mostrado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el efecto de la capitaliz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debería usar para comparar productos de ahorro, en lugar de la tasa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gla del 7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9871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fórmula que le permite calcul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tiempo que tardará en duplicar sus ahorr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4% = 18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tasa de interés que necesita para que sus ahorros se dupliquen en un periodo de tiempo fij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12 = 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quiere que su cuenta de ahorro se duplique de valor en 20 años, ¿qué tasa de interés necesitaría tener la cuent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72 ÷ 20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2803680" y="5311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e4e"/>
                </a:solidFill>
                <a:latin typeface="Arial"/>
              </a:rPr>
              <a:t>3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ciones para ahorr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987120"/>
            <a:ext cx="82296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isten dos formas básicas de ahorrar diner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brir una cuenta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egurada a nivel federal por la Federal Deposit Insurance Corporation (FD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myfdicinsuranc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rtir su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asegurada a nivel federal y puede perder va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Safe with cash"/>
          <p:cNvPicPr/>
          <p:nvPr/>
        </p:nvPicPr>
        <p:blipFill>
          <a:blip r:embed="rId2"/>
          <a:stretch/>
        </p:blipFill>
        <p:spPr>
          <a:xfrm>
            <a:off x="6934320" y="3429000"/>
            <a:ext cx="161424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520" y="2514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en la cu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ja su dinero durante un cierto periodo de tiempo/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uede realizar depósitos o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más intereses a plazos más lar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iene que pagar si retira su dinero antes de terminar el 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Horizontal Scroll 3"/>
          <p:cNvSpPr/>
          <p:nvPr/>
        </p:nvSpPr>
        <p:spPr>
          <a:xfrm>
            <a:off x="530280" y="838080"/>
            <a:ext cx="7616880" cy="17528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Notched Right Arrow 4"/>
          <p:cNvSpPr/>
          <p:nvPr/>
        </p:nvSpPr>
        <p:spPr>
          <a:xfrm rot="19931400">
            <a:off x="26640" y="169704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saldo mínimo más alto para ganar interés (generalmen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 más intereses por saldos más al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tiene un plazo fij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ermite hacer depósitos y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aga interés en su s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requerir que mantenga un saldo diari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depósito más bajo para abrir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Desarrollo Individual (IDA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8276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 contribución con un plan de ahorros por igual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yuda a familias de bajos ingresos a ahorrar dinero y ser financieramente independ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apacitación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ducación universi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tablecer una pequeña empr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rar una c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19" descr="Female graduate taking a picture with family"/>
          <p:cNvPicPr/>
          <p:nvPr/>
        </p:nvPicPr>
        <p:blipFill>
          <a:blip r:embed="rId1"/>
          <a:stretch/>
        </p:blipFill>
        <p:spPr>
          <a:xfrm>
            <a:off x="6248520" y="3216240"/>
            <a:ext cx="2438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Transferencia Electrónica (ET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616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 de bajo cos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ermite a los destinatarios </a:t>
            </a: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 pagos del gobierno federal recibir sus pagos a través del depósito dir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gunas características s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cargo mensual menor o igual a $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n sald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opción de transacciones de débito en puntos de v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 Plan de Ahorro Universitario 52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218960"/>
            <a:ext cx="6095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para educ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rado por una institución educacional o esta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eñado para ayudar a familias a reservar fondos para pagar los costos universitarios futu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p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529 de Matrícula Prepa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5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Three college students walking through a campus with books in their hands"/>
          <p:cNvPicPr/>
          <p:nvPr/>
        </p:nvPicPr>
        <p:blipFill>
          <a:blip r:embed="rId1"/>
          <a:stretch/>
        </p:blipFill>
        <p:spPr>
          <a:xfrm>
            <a:off x="6391440" y="1523880"/>
            <a:ext cx="24476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mprar una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versión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opción de ahorro a largo plazo para ingresos futuros o beneficios financier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productos de inversión no están asegurados a nivel feder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e medir los riesgos y las gananci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ender las inversiones por más de lo que pag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ibir dividendos 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tes de inver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1265040"/>
            <a:ext cx="8458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horre dinero (6 meses para su protecció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 ban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asesor de buena repu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firma de invers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por las cuentas para la jubilación ofrecidas por su emplea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ga sus propias indag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14" descr="Person inserting paper labeled &quot;401K&quot; into a piggy bank"/>
          <p:cNvPicPr/>
          <p:nvPr/>
        </p:nvPicPr>
        <p:blipFill>
          <a:blip r:embed="rId1"/>
          <a:stretch/>
        </p:blipFill>
        <p:spPr>
          <a:xfrm>
            <a:off x="6858000" y="2057400"/>
            <a:ext cx="12938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roductos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n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ndos mutu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versiones par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de los Estados Unidos (EE.UU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Stock charts and data"/>
          <p:cNvPicPr/>
          <p:nvPr/>
        </p:nvPicPr>
        <p:blipFill>
          <a:blip r:embed="rId1"/>
          <a:stretch/>
        </p:blipFill>
        <p:spPr>
          <a:xfrm>
            <a:off x="6259680" y="1676520"/>
            <a:ext cx="2655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8600" y="2362320"/>
            <a:ext cx="86868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 una corporación o al gobierno durante un cierto periodo de tiempo/plazo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es propietario de parte de una compañía. Podrá recibir dividendos cuando la compañía tiene gananci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Horizontal Scroll 8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53" name="Notched Right Arrow 9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l gobierno. Puede elegir de productos basados en su valor nominal y la fecha de vencimi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invierte dinero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urante un largo periodo de tiempo para así tener dinero para su sustento cuando deje de trabaj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Horizontal Scroll 6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62" name="Notched Right Arrow 7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8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9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1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2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ducto que le permite invertir en muchos inversores y productos de invers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Horizontal Scroll 5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71" name="Notched Right Arrow 8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4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5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6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7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8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2949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compran a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rmalmente se compran a la mitad de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$500 EE Savings bond"/>
          <p:cNvPicPr/>
          <p:nvPr/>
        </p:nvPicPr>
        <p:blipFill>
          <a:blip r:embed="rId1"/>
          <a:stretch/>
        </p:blipFill>
        <p:spPr>
          <a:xfrm>
            <a:off x="2438280" y="3429000"/>
            <a:ext cx="4343400" cy="188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0" name="TextBox 5"/>
          <p:cNvSpPr/>
          <p:nvPr/>
        </p:nvSpPr>
        <p:spPr>
          <a:xfrm>
            <a:off x="3655440" y="54100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e4e"/>
                </a:solidFill>
                <a:latin typeface="Helvetica Neue"/>
              </a:rPr>
              <a:t>Ejemplo de Bono 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ítulos del Tesoro de EE.U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bligaciones del Tesoro (T bil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és del Tesoro (T no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Protegidos contra  la Inflación (TIP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del Tesoro (T bo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n seguros porque están respaldados por el Gobierno de EE.U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corpora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éstamos a corporaciones durante un cierto periodo de tiempo/plaz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orporación se compromete a devolver el monto de dinero que usted le presta en una fecha específic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c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987480"/>
            <a:ext cx="68580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propietario de una participación/parte de la compañ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recibir dividendos si la compañía tiene gana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su inversión cambia (sube o baja) según la bolsa de valor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Up and down arrow representing the fluctuation of stocks"/>
          <p:cNvPicPr/>
          <p:nvPr/>
        </p:nvPicPr>
        <p:blipFill>
          <a:blip r:embed="rId1"/>
          <a:stretch/>
        </p:blipFill>
        <p:spPr>
          <a:xfrm>
            <a:off x="7010280" y="99072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ondos mutu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160" y="12193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oducto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bina dinero de muchos invers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acciones y bon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pagar dividen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mbia en valor con la bolsa de val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iversifique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tribuya su riesgo de pérdida entre muchas opciones de inversión y ahor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98712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licar por qué es importante ahor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er objetivos para ahorrar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opcione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opciones de ahorro le ayudarán a alcanzar sus objetivo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nocer cuáles de las opciones de inversión son apropiada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la jubi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grande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Arrow in target bulls eye"/>
          <p:cNvPicPr/>
          <p:nvPr/>
        </p:nvPicPr>
        <p:blipFill>
          <a:blip r:embed="rId1"/>
          <a:stretch/>
        </p:blipFill>
        <p:spPr>
          <a:xfrm>
            <a:off x="7924680" y="304920"/>
            <a:ext cx="1143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s de Jubilación Individuales (IR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n incluir una combinación de productos de invers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n libres de impue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uctúan con el mercado de valo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n IRA tradicionales y Ro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Road signs saying &quot;To,&quot; &quot;Retirement 401K,&quot; &quot;Invest Wisely&quot;"/>
          <p:cNvPicPr/>
          <p:nvPr/>
        </p:nvPicPr>
        <p:blipFill>
          <a:blip r:embed="rId1"/>
          <a:stretch/>
        </p:blipFill>
        <p:spPr>
          <a:xfrm>
            <a:off x="7529400" y="2286000"/>
            <a:ext cx="11574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lanes 401(k) y 403(b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987120"/>
            <a:ext cx="8381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1(k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idos por un emplead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designa un porcentaje de su salario a retirar antes de pagar impuest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empleador podría ofrecer la equiparación de contribu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3(b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frecidos a empleados de escuelas públicas y ciertas organizaciones exentas de i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Egg with 401K written on it"/>
          <p:cNvPicPr/>
          <p:nvPr/>
        </p:nvPicPr>
        <p:blipFill>
          <a:blip r:embed="rId1"/>
          <a:stretch/>
        </p:blipFill>
        <p:spPr>
          <a:xfrm>
            <a:off x="7439040" y="380880"/>
            <a:ext cx="13176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ualidades variab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seguro contratado que invierte su prima en varias inversiones similares a los fondos mutu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s anualidades variables pueden tener muchos costos, que incluye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ltos costos an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rgos de rescate sobre retiros prematu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l pago de impuestos por retiros anticipados antes de 59 años y medio de e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de garantía de beneficio en v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ómo elegir la mejor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98712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eriguar todo lo que pue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e por cuánto tiempo planea mantener su dinero inverti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versif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aluar periódicamente sus produc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su tolerancia al ries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Man looking at financial section of newspaper"/>
          <p:cNvPicPr/>
          <p:nvPr/>
        </p:nvPicPr>
        <p:blipFill>
          <a:blip r:embed="rId1"/>
          <a:stretch/>
        </p:blipFill>
        <p:spPr>
          <a:xfrm>
            <a:off x="6934320" y="2971800"/>
            <a:ext cx="15238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invers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a c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lor de la casa       = $2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Menos la deuda       = $20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pital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         =   $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 nego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3" descr="House"/>
          <p:cNvPicPr/>
          <p:nvPr/>
        </p:nvPicPr>
        <p:blipFill>
          <a:blip r:embed="rId1"/>
          <a:stretch/>
        </p:blipFill>
        <p:spPr>
          <a:xfrm>
            <a:off x="6095880" y="380880"/>
            <a:ext cx="2819520" cy="147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horrar para la jubil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987120"/>
            <a:ext cx="7924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oveche al máximo los cheques de sueldo que le quedan hast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nte reducir o eliminar deu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zca un plan para su dinero le alcance durante toda su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6" descr="Couple sitting on a bench at the beach"/>
          <p:cNvPicPr/>
          <p:nvPr/>
        </p:nvPicPr>
        <p:blipFill>
          <a:blip r:embed="rId1"/>
          <a:stretch/>
        </p:blipFill>
        <p:spPr>
          <a:xfrm>
            <a:off x="6705720" y="4253040"/>
            <a:ext cx="19414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actores decis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quiere ahorrar con el tiemp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Durante cuánto tiempo puede tener invertido su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se siente con respecto a poner su dinero en riesg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2: Plan de acción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factores podrían afectar su toma de decisiones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acciones a corto y a largo plazo puede realizar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987480"/>
            <a:ext cx="82296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n aprendi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 que significa pagarse a usted mismo y cómo se puede beneficiar al hacer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ejos para ayudarlo a ahorrar m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incrementa el dinero con intereses co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rias opciones de inversión y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decidir qué opciones de inversión y ahorro son mejore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 o quiere aprender acerca de cómo ahorrar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874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significa “pagarse usted primero”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er dinero en sus ahorros antes de pagar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Por qué creen que deberían ahorrar dinero antes de pagar sus factur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es son algunas de las cosas para las que tal vez quiera ahorrar diner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Glass piggy bank filled with change"/>
          <p:cNvPicPr/>
          <p:nvPr/>
        </p:nvPicPr>
        <p:blipFill>
          <a:blip r:embed="rId1"/>
          <a:stretch/>
        </p:blipFill>
        <p:spPr>
          <a:xfrm>
            <a:off x="914400" y="4876920"/>
            <a:ext cx="162576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primer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sus objetivos de ahorro y el monto que necesit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primera parte de la hoja de trabajo, “Mis objetivos de ahorr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segund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los consejos para ahorrar que acaba de apr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segunda parte de la hoja de trabajo, “Estrategias para ahorrar para mis objetivos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987480"/>
            <a:ext cx="65530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El interé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suma de dinero que las instituciones financieras le pagan por depositar su dinero con ell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expresa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calcula en función del dinero que tiene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2" descr="Flow of people and money in and out of bank"/>
          <p:cNvPicPr/>
          <p:nvPr/>
        </p:nvPicPr>
        <p:blipFill>
          <a:blip r:embed="rId1"/>
          <a:stretch/>
        </p:blipFill>
        <p:spPr>
          <a:xfrm>
            <a:off x="7315200" y="1905120"/>
            <a:ext cx="1603440" cy="2663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 compue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pagado anterior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dinero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se puede capitaliza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aria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ns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Calendar and cash"/>
          <p:cNvPicPr/>
          <p:nvPr/>
        </p:nvPicPr>
        <p:blipFill>
          <a:blip r:embed="rId1"/>
          <a:stretch/>
        </p:blipFill>
        <p:spPr>
          <a:xfrm>
            <a:off x="6629400" y="1523880"/>
            <a:ext cx="217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NTI</cp:lastModifiedBy>
  <dcterms:modified xsi:type="dcterms:W3CDTF">2011-03-09T20:22:31Z</dcterms:modified>
  <cp:revision>18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